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602-AF1E-4202-A8A7-0461ACFF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0CE-03A8-4BB2-A4E8-ECECB4F8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0ED-2D7A-4176-BF63-2BE0CF43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B35-CE4B-4CE0-85BC-A3AEC517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11E7-CFDC-4337-80DB-408F344E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27DD-6B46-4692-99F7-8309BE66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677A-0F0A-46BE-89AA-428DF965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9371-15D1-41E1-844F-167BBB2B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2ED0-0A27-4A18-8B7D-5929E152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23EE-0EBF-4374-BDDE-3F6387C1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3018-6100-47DD-B9B8-71A73296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5F5-D13B-40ED-80EE-10A0F131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B6EB-C018-406A-BD06-F6B2ED9E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6CCA-37B2-4595-BB0C-46ABE8FB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310B-3FB1-4310-8173-E73F6E6A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9242-E37E-4568-9575-FE9A2EED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8FB2-0DEB-43FA-BBB4-F3AEB68D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2311-8AA6-4D77-BFF0-FD63CF46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EF5BD-267D-42EA-ABE5-C225EAA3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DD45-3EBF-431E-AB50-B3B87BD6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77831-D4EB-4D26-AF9A-4E7AA91E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5988C-3686-4383-99AA-BF550D5E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4EA-FCBF-4E91-9BA1-F7D47226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3CD7-44D5-4D5F-A770-0F4F9A1D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4C743-5482-4F1A-99BA-9A44372A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99EA1-450C-4724-9451-993364BA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CBED-FAA3-4CFB-877C-5DE078CA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AF41-CD47-4563-A6FE-E3A71FDE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28E2-B245-41E1-99D0-5C4AC976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9C4D2-2698-410C-AB66-FA6276A2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DC3BB-DDC9-44D7-BC2B-9DAF225A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DC8CA-586C-4AFF-A9E5-AFEFAD58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95809-5BB2-4517-8DFC-A3C87795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15C-EBF0-47E6-9CE2-4A456010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E6DB7-4D20-412D-9300-C5A4D822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0977F-0E39-4DA3-94B3-528106E0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F37C9-09DC-4E04-93CC-78238F34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A11F8-BFD1-495F-B743-D0A0AE6E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86D29-DDDA-42ED-9CB9-7141186D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43920-7B92-4E39-8AA2-232B21CF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3220-F5B7-42C8-B676-A851A7FB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F4A2-803E-4D8B-98D2-427082E9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310C6-6C9A-4AD1-9164-DB51FEFA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17B58-502F-41F0-93B2-14D993A0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484-963B-4E93-B36A-6B3F66ED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A3973-848F-4A30-9FF6-A79286FF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A164C-15E3-4CAC-A32D-DB3F4687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511A-62FC-4194-9B8E-A3B18C87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3A5AC-52D7-4DEE-A9E4-C74AA739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F00B4-769B-4CDF-BC14-35C19CCD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39C79-B3AE-4E55-A8FB-65320939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88B00-3252-42C6-832C-B0C4B6EA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8E79D-CBD1-472E-9665-52C300FC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A1784-45E1-4131-A292-8036B195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E9F0D-DBC5-41D2-8901-1968506C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449-B447-4401-9B93-7B438F2F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7DD4C-326C-48E9-B7BB-245C22CD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20CB0-1A3A-4213-BE8D-CD516F12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F5492-C562-4ACC-8441-B934C250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9C784-5AAE-40F4-8AC8-F3CD3020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1AF93-CF60-41DF-AD30-F4DAE37A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3CB5-0E01-40BD-8CB6-8CE858FC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D918E-D097-4BC2-A802-B4741A80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D4998-DAAC-46AB-854D-1AD0B475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15612-57C4-44EE-89D8-8DF5FE0D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E5098-A952-4994-ACF1-EDDE3407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134-2E39-4B56-8984-DF8B8498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B6FA0-3ECD-4F46-8F18-13DF24FD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E488B-8F6A-4A7B-855D-45022569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CA32A-FA88-42BC-B148-65AD1686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4F10B-D867-4327-90DC-168A6C59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F8735-2A63-4FAD-A43E-BD6FF0EF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A1CDE-CF19-4EE4-A00E-6BDF4EAA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3A14C-FCCC-4BAB-9CCF-831F5162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D6329-7E2D-4D55-B0B0-FCA86FD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71EDE-1E74-46F6-84E5-712711B4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248D0-EF6F-4BCD-AFB5-D5B4AC5A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0BB-8425-4310-9320-FE8B1ED7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E6C19-03C9-473A-9495-F467C7A9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6150C-2B51-44A5-9515-C03344C6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FDEE9-54AC-461E-BDEF-61DF566F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05FEA-F7B6-47EC-8FCF-1AB40C98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905F5-9E27-4A9F-8B93-FD84DFAF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C12-6946-40DF-B468-132F164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A41D-F909-4769-811C-B5B34D6B6D1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5348-B1A7-4034-A26F-6DAFC60AFA24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1CCD-50A1-4C34-A0FE-7AE465B9E44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55D5-41A9-4CAB-8DBB-0A07EED23241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B85F-578D-44D2-8304-84EE37D5282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4D39-BE9A-4F14-8865-0CF82483E627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0384-73B8-4EC7-AC49-B289634C94B8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-133200"/>
            <a:ext cx="8217000" cy="163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E:\Форт Баярд\vic192.jpg"/>
          <p:cNvPicPr/>
          <p:nvPr/>
        </p:nvPicPr>
        <p:blipFill>
          <a:blip r:embed="rId2"/>
          <a:stretch/>
        </p:blipFill>
        <p:spPr>
          <a:xfrm>
            <a:off x="1865160" y="2109960"/>
            <a:ext cx="510228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04" name="Picture 2" descr="E:\Форт Баярд\vic191.jpg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4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5c9c"/>
                </a:solidFill>
                <a:latin typeface="Arial"/>
              </a:rPr>
              <a:t>Немного истории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Форт Боярд находится в Атлантическом океане в Бискайском заливе недалеко от города Ла-Рошель. Это не бутафория, а настоящее оборонительное фортификационное сооружение, построенное в XVIII веке по приказу Наполеона на маленьком островке для прикрытия морских подступов к портовым городам Рошфор и Ла-Рошель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5c9c"/>
                </a:solidFill>
                <a:latin typeface="Century Gothic"/>
              </a:rPr>
              <a:t>Немного истории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 стратегических целях крепость ни разу не применялась, зато долгое время служила местом содержания под стражей политических заключенных. Когда тюрьму перенесли в Новую Каледонию, форт стал одним из памятников французской истории регионального масштаб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9:29:22Z</dcterms:created>
  <dc:creator>User</dc:creator>
  <dc:description/>
  <dc:language>en-US</dc:language>
  <cp:lastModifiedBy>user</cp:lastModifiedBy>
  <dcterms:modified xsi:type="dcterms:W3CDTF">2016-11-01T05:15:44Z</dcterms:modified>
  <cp:revision>19</cp:revision>
  <dc:subject/>
  <dc:title>ФОРТ   БАЯРД</dc:title>
</cp:coreProperties>
</file>